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81CF9E-326F-4C41-AF63-CB9D31BFCE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7D618-7DF0-435C-A6AE-D9154BECD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3E5D73-B3EF-4BB0-86E3-58117B6716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C45AC2-D0C3-485A-B45F-EA61C4F940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E291B-DE67-4F4F-8D75-4C3BB5137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C0C19-1656-43E9-8CE7-B8F609546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25253-F5A6-4ED8-AC87-F0650B73D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F07C6-5B44-4B69-8BBD-9985F8ADE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CDBF8-749D-4F4E-818C-6DCEAD003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50584-AB6E-4A5F-AC7C-0A24B0840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53A06-5B1C-46C6-A175-25E4BD7BF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55216-835C-4F4F-A79F-7029C0F124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361AC-A51A-4DEA-8023-77B717DD3C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821160" y="1933920"/>
            <a:ext cx="4923360" cy="1007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pítulo X</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ransmisiones en directo   </a:t>
            </a:r>
            <a:endParaRPr b="0" lang="en-US" sz="2800" spc="-1" strike="noStrike">
              <a:solidFill>
                <a:srgbClr val="000000"/>
              </a:solidFill>
              <a:latin typeface="Arial"/>
            </a:endParaRPr>
          </a:p>
        </p:txBody>
      </p:sp>
      <p:sp>
        <p:nvSpPr>
          <p:cNvPr id="42" name=""/>
          <p:cNvSpPr/>
          <p:nvPr/>
        </p:nvSpPr>
        <p:spPr>
          <a:xfrm>
            <a:off x="44280" y="1403280"/>
            <a:ext cx="5689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44280" y="3564000"/>
            <a:ext cx="5689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836640" y="4714200"/>
            <a:ext cx="4968720" cy="1372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na experiencia común a cualquier medio católico es la transmisión que hace de las actividades pastorales que otros ni siquiera registran. Sean estas en diferido o en directo, son de su resorte. Por eso, describir desde el lugar de la escena reúne una serie de componentes que forman parte de este capítulo.</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5" name=""/>
          <p:cNvSpPr/>
          <p:nvPr/>
        </p:nvSpPr>
        <p:spPr>
          <a:xfrm>
            <a:off x="44280" y="1403280"/>
            <a:ext cx="5689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44280" y="3564000"/>
            <a:ext cx="5689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821160" y="1933920"/>
            <a:ext cx="4923360" cy="1007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pítulo X</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ransmisiones en direct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30</a:t>
            </a:r>
            <a:endParaRPr b="0" lang="en-US" sz="800" spc="-1" strike="noStrike">
              <a:solidFill>
                <a:srgbClr val="000000"/>
              </a:solidFill>
              <a:latin typeface="Arial"/>
            </a:endParaRPr>
          </a:p>
        </p:txBody>
      </p:sp>
      <p:sp>
        <p:nvSpPr>
          <p:cNvPr id="49"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50"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620640" y="310320"/>
            <a:ext cx="5904000" cy="86475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Las transmisiones en directo casi siempre tienen algo en común, un elemento que las une. La improvisación.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En muchos casos se sale corriendo con la fuerza de querer transmitir desde el lugar pero se sale sin un guión, sin un “mapa” mínimo de lo que se va a decir, sin conocer el lugar dónde se va a estar, las condiciones que acompañarán o podrían acompañar la escena, sin dar una mirada a los equipos realmente necesarios para cumplir con la transmisión, en fin. Reina un bello deseo pero brilla una inaceptable improvisación.</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Cuántos miedos acompañan el momento de enfrentar el primer directo? Todo lo planeado se puede venir atrás por detalles simples. La práctica y experiencia de este trabajo en diferentes escenarios hacen verdaderos maestros en estas artes que siempre tendrán algo nuevo que enseñar.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Para no ser sorprendido por detalles mínimos que pueden ocasionar el máximo daño a la transmisión, el comunicador católico ante todo debe conocer el lenguaje eclesial para tomar le decisión de participar al aire.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Además, se puede considerar: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Uso de  líneas telefónicas sin temporizador o cortes</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Procurar que</a:t>
            </a:r>
            <a:r>
              <a:rPr b="1" lang="en-US" sz="1300" spc="-1" strike="noStrike">
                <a:solidFill>
                  <a:srgbClr val="000000"/>
                </a:solidFill>
                <a:latin typeface="Tahoma"/>
              </a:rPr>
              <a:t> </a:t>
            </a:r>
            <a:r>
              <a:rPr b="0" lang="en-US" sz="1300" spc="-1" strike="noStrike">
                <a:solidFill>
                  <a:srgbClr val="000000"/>
                </a:solidFill>
                <a:latin typeface="Tahoma"/>
              </a:rPr>
              <a:t>el punto de ubicación central esté cerca a tomas eléctricas,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pero lejos de la amplificación del sonido que proporciona el lugar</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Proveerse de suficientes extensiones, cables, conectores, reductores,</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tijeras, alicates, linternas, fósforos, cuchillas</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Preguntar lo referente al sonido a la persona encargada del lugar. No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buscar terceros. Hablar con quien puede generar respuestas y tomar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decisiones inmediatas</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Proveerse de micrófonos inalámbricos para lograr una mejor descripción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del lugar gracias al desplazamiento que este permite</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Llegar temprano. Preferiblemente horas antes y realizar todas las pruebas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de sonido que sean necesarias</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31</a:t>
            </a:r>
            <a:endParaRPr b="0" lang="en-US" sz="800" spc="-1" strike="noStrike">
              <a:solidFill>
                <a:srgbClr val="000000"/>
              </a:solidFill>
              <a:latin typeface="Arial"/>
            </a:endParaRPr>
          </a:p>
        </p:txBody>
      </p:sp>
      <p:sp>
        <p:nvSpPr>
          <p:cNvPr id="53"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54"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549360" y="-283680"/>
            <a:ext cx="5832360" cy="9835560"/>
          </a:xfrm>
          <a:prstGeom prst="rect">
            <a:avLst/>
          </a:prstGeom>
          <a:noFill/>
          <a:ln w="0">
            <a:noFill/>
          </a:ln>
        </p:spPr>
        <p:style>
          <a:lnRef idx="0"/>
          <a:fillRef idx="0"/>
          <a:effectRef idx="0"/>
          <a:fontRef idx="minor"/>
        </p:style>
        <p:txBody>
          <a:bodyPr lIns="90000" rIns="90000" tIns="46800" bIns="46800" anchor="ctr">
            <a:spAutoFit/>
          </a:bodyPr>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Recorrer el lugar. Buscar los puntos muertos para los micrófonos, los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lugares de mayor y menor concentración de personas y los puntos de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amplificación</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Hacer una revisión de los equipos que se van a utilizar. De nada sirve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una gran maleta con un montón de chatarra</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Coordinar el uso de los pre-grabados</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Coordinar invitados</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Hacer un guión de la transmisión</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Portar libreta, papel y lápiz</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Tener contacto cercano con el coordinador de la transmisión</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En cuanto a la logística, proveerse con tiempo de mesas, sillas, plásticos,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sombrillas, carpas. Nunca se sabe cuando el clima obligue a cubrir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equipos, hacer traslado, etc. </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Llevar ropa cómoda. Preferiblemente tenis y chalecos que identifiquen a la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emisora</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Definir funciones de los participantes de la transmisión </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Conocer del tema y estar suficientemente documentado </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Tener un plan “B” para caídas de la llamada, apagones, etc. En ese caso,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grabe lo que está ocurriendo y al llegar la energía, transmita lo más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importante para los oyentes, advierta si, que el fluido eléctrico se perdió,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pero que retransmiten lo ocurrido en ese momento</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Ubicarse en un lugar estratégico que permita visualizar todo el escenario.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En este caso, siempre será mejor la discreción. El protagonista del evento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no es usted</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Proveer audífonos que faciliten “retorno” para todos los participantes del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directo</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Ser puntual en el inicio de la transmisión. El evento podrá retrasarse y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usted tendrá que esperar. Pero si usted se retrasa, el evento no esperara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por usted</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Grabar sonido ambiente</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Ubicarse en un sector en el que la gente no afecte su retorno</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El tiempo al aire es sagrado. La transmisión en la mayoría de los casos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tiene compromisos comerciales</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32</a:t>
            </a:r>
            <a:endParaRPr b="0" lang="en-US" sz="800" spc="-1" strike="noStrike">
              <a:solidFill>
                <a:srgbClr val="000000"/>
              </a:solidFill>
              <a:latin typeface="Arial"/>
            </a:endParaRPr>
          </a:p>
        </p:txBody>
      </p:sp>
      <p:sp>
        <p:nvSpPr>
          <p:cNvPr id="57"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58"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620640" y="402120"/>
            <a:ext cx="5688000" cy="8647560"/>
          </a:xfrm>
          <a:prstGeom prst="rect">
            <a:avLst/>
          </a:prstGeom>
          <a:noFill/>
          <a:ln w="0">
            <a:noFill/>
          </a:ln>
        </p:spPr>
        <p:style>
          <a:lnRef idx="0"/>
          <a:fillRef idx="0"/>
          <a:effectRef idx="0"/>
          <a:fontRef idx="minor"/>
        </p:style>
        <p:txBody>
          <a:bodyPr lIns="90000" rIns="90000" tIns="46800" bIns="46800" anchor="ctr">
            <a:spAutoFit/>
          </a:bodyPr>
          <a:p>
            <a:pPr>
              <a:lnSpc>
                <a:spcPct val="12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Tener un transmisor móvil de alta frecuencia garantizará un trabajo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independiente y técnicamente seguro. Otras emisoras optan por adquirir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equipos denominados “Híbridos telefónicos”, los mismos que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mejoran la señal de audio</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Sugerencias. Desde los sentidos.</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El odio, ve.</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El oído es el sentido más importante con el que cuenta el oyente. Por eso, es bueno hacer tomas del ambiente. Que se escuchen los pasos de la marcha, los llamados de la comunidad, las oraciones que acompañan la manifestación, los pitos de los carros. Que los oyentes “vean” la marcha, el templo parroquial. No diga lo que la gente grita, deje que se escuchen los gritos de la gente. No diga que los carros hacen sonar los pitos, meta el micrófono. El pito hablará solo. Ponga el micrófono hacia el cielo. Haga una “toma aérea”. Que vuele la imaginación con la pólvora que explota en el aire. Saque al otro de casa y hágalo presente.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Que uno de los integrantes del directo hable de las sensaciones que se registran desde el oído. Que no repita lo que otros han dicho. Que no se estén diciendo los nombres de quienes están en el directo cada vez que se hace un cambio.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a:t>
            </a:r>
            <a:r>
              <a:rPr b="0" lang="es-ES" sz="1300" spc="-1" strike="noStrike">
                <a:solidFill>
                  <a:srgbClr val="000000"/>
                </a:solidFill>
                <a:latin typeface="Tahoma"/>
              </a:rPr>
              <a:t>. Si, como usted lo ha dicho María Helena… estamos aquí en el centro de… eso aburre. Cansa al oyente.</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Es bueno cambiar los conectores para dar paso al compañero y evitar frases tan repetidas como: “vamos a estudios centrales… ahora seguimos con nuestro compañero que está en otro punto de la información”… Si, en otro punto pero diciendo lo mismo.</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si Carlos, como usted ha dicho, aquí todo es alegría, como allá. Este fue un reporte de…</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33</a:t>
            </a:r>
            <a:endParaRPr b="0" lang="en-US" sz="800" spc="-1" strike="noStrike">
              <a:solidFill>
                <a:srgbClr val="000000"/>
              </a:solidFill>
              <a:latin typeface="Arial"/>
            </a:endParaRPr>
          </a:p>
        </p:txBody>
      </p:sp>
      <p:sp>
        <p:nvSpPr>
          <p:cNvPr id="61"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62"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620640" y="429120"/>
            <a:ext cx="5689800" cy="84099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Los sentidos sirven para “sentir”. No hay que desperdiciar la riqueza del ambiente. El habla solo. Si algo enriquece un relato es el “mapeo” sonoro. Las transmisiones religiosas, por ejemplo, son muy ricas en recursos expresivos. Captúrelos y páselos a los oyentes.</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Los ojos ven y oyen.</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Ver es más que llegar al lugar y decir… Si, vemos que viene un caballo con un jinete vestido de rojo. Al parecer es el Alcalde que ahora llega hasta este lugar. Entonces, el periodista sale corriendo detrás del noticionon. O: ¡amigos! Ahora vemos entrar al Señor Nuncio Apostólico, detrás de el vienen… y del Nuncio… nada. ¿Cómo es? ¿Cómo viene vestido? ¿De qué color? ¿Cuántos años tiene?, etc.</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Los ojos ayudan a describir los colores de la escena. El color del cielo. Lo grande del escenario. Si es abierto o cerrado. La ubicación y tipo de sillas, bancas. Si el espacio es largo, corto, su capacidad, si quien habla se encuentra ubicado en la parte alta, baja, al norte o en una tarima.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También se informa sobre el número de asistentes y sus características: tipo de vestido, colores, etc.</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Se “ve” para contar. ¿Hacia dónde se mueve la gente? ¿Qué dirección tomará? ¿Desde dónde inicia la marcha? ¿Cómo está vestida la gente en la ceremonia? ¿Qué imágenes tiene la parroquia? ¿Cómo es el eslogan de la campaña? ¿Cuáles son sus colores? Si la gente se ha uniformado, resaltar ese signo y leer los demás. Describirlos para el oyente. Si hay sombrillas los oyentes podrán imaginar que hace mucho sol o está por llover, pero, permita que la gente imagine algo.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Por eso, en cualquier transmisión se consideran más cercanas las personas que miran a su interlocutor. Mirar poco puede ser signo de timidez o falta de seguridad en lo que se dice. La mirada acompaña las conversaciones y anima a la otra persona a comunicarse. Por eso, mirar a los ojos cuando se habla hace que el discurso sea más convincente.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34</a:t>
            </a:r>
            <a:endParaRPr b="0" lang="en-US" sz="800" spc="-1" strike="noStrike">
              <a:solidFill>
                <a:srgbClr val="000000"/>
              </a:solidFill>
              <a:latin typeface="Arial"/>
            </a:endParaRPr>
          </a:p>
        </p:txBody>
      </p:sp>
      <p:sp>
        <p:nvSpPr>
          <p:cNvPr id="65"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66"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22440" y="337320"/>
            <a:ext cx="5759280" cy="86475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Levantar las cejas puede significar sorpresa y el fruncimiento de ellas falta de comprensión o disgusto.</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La comunicación visual compromete al receptor, es un componente de</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intimidad, además de la proximidad física, el tono de voz y la expresión</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sonriente del rostro. En la transmisión se mira la gente para hacerla</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partícipe y claro, nunca está de mas sonreír pues es un gesto universal y</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agradable.</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Mire a su alrededor. Camine de espaldas. Cambie su ubicación para que cambie su mirada. Pida a quien apoya la transmisión que le hable de lo que ve. Que no repita lo que usted ya dijo. Que narre a los oyentes cómo se ve desde ese lugar. Que imagine una foto y la describa paso a paso para involucrar al escucha en la escena.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El tacto, escucha.</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El cuerpo siente y lo hace desde sus “sensores”. Todo el cuerpo puede captar las vibraciones de la escena. Si se transmite desde una inundación o deslizamiento de tierra el corresponsal será el primero en sentirlo. Sus pies y manos están en la escena. Su sensor personal hablará de lo climatológico y de los guantes que tiene puesta la gente por los dos grados de temperatura que registra el lugar.</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Las manos ayudan mucho más que para tener el micrófono. Con ellas sentirá el miedo de la comunidad. La seguridad de quien habla. El lenguaje corporal envía señales y las manos por momentos pasan a ser boca.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La persona que domina el lenguaje silente del cuerpo controla los movimientos inconscientes que puede hacer mientras habla, pues, aunque sea silenciosa la postura corporal con sus mensajes concientes o inconscientes está transmitiendo algo y la interpretación depende del interlocutor.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Si el entrevistado tiene miedo de hablar, le asustará más ver frotar sus</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35</a:t>
            </a:r>
            <a:endParaRPr b="0" lang="en-US" sz="800" spc="-1" strike="noStrike">
              <a:solidFill>
                <a:srgbClr val="000000"/>
              </a:solidFill>
              <a:latin typeface="Arial"/>
            </a:endParaRPr>
          </a:p>
        </p:txBody>
      </p:sp>
      <p:sp>
        <p:nvSpPr>
          <p:cNvPr id="69"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70"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20640" y="309600"/>
            <a:ext cx="5759640" cy="81723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manos, o golpear ligeramente sus dedos pues ese movimiento denota impaciencia. Si se cruzan los brazos se está enviando un mensaje de prevención a quien habla o por lo que se habla. Lo mejor es verse natural.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ea typeface="Times New Roman"/>
              </a:rPr>
              <a:t>Esa es la mejor forma de “usar” el cuerpo.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ea typeface="Times New Roman"/>
              </a:rPr>
              <a:t>Si se analiza el lenguaje corporal cotidiano se encuentran varios tipos de gestos:</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ea typeface="Times New Roman"/>
              </a:rPr>
              <a:t>“</a:t>
            </a:r>
            <a:r>
              <a:rPr b="1" lang="en-US" sz="1300" spc="-1" strike="noStrike">
                <a:solidFill>
                  <a:srgbClr val="000000"/>
                </a:solidFill>
                <a:latin typeface="Tahoma"/>
                <a:ea typeface="Times New Roman"/>
              </a:rPr>
              <a:t>Emblema:</a:t>
            </a:r>
            <a:r>
              <a:rPr b="0" lang="en-US" sz="1300" spc="-1" strike="noStrike">
                <a:solidFill>
                  <a:srgbClr val="000000"/>
                </a:solidFill>
                <a:latin typeface="Tahoma"/>
                <a:ea typeface="Times New Roman"/>
              </a:rPr>
              <a:t> gesto por el que se interpreta. Hay emblemas específicos de cada cultura pero también existen universales.</a:t>
            </a:r>
            <a:endParaRPr b="0" lang="en-US" sz="1300" spc="-1" strike="noStrike">
              <a:solidFill>
                <a:srgbClr val="000000"/>
              </a:solidFill>
              <a:latin typeface="Arial"/>
            </a:endParaRPr>
          </a:p>
          <a:p>
            <a:pPr>
              <a:lnSpc>
                <a:spcPct val="12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ea typeface="Times New Roman"/>
              </a:rPr>
              <a:t> </a:t>
            </a:r>
            <a:r>
              <a:rPr b="1" lang="en-US" sz="1300" spc="-1" strike="noStrike">
                <a:solidFill>
                  <a:srgbClr val="000000"/>
                </a:solidFill>
                <a:latin typeface="Tahoma"/>
                <a:ea typeface="Times New Roman"/>
              </a:rPr>
              <a:t>Reguladores:</a:t>
            </a:r>
            <a:r>
              <a:rPr b="0" lang="en-US" sz="1300" spc="-1" strike="noStrike">
                <a:solidFill>
                  <a:srgbClr val="000000"/>
                </a:solidFill>
                <a:latin typeface="Tahoma"/>
                <a:ea typeface="Times New Roman"/>
              </a:rPr>
              <a:t> representan un papel muy importante en la comunicación. Se emplean para ceder la palabra. </a:t>
            </a:r>
            <a:endParaRPr b="0" lang="en-US" sz="1300" spc="-1" strike="noStrike">
              <a:solidFill>
                <a:srgbClr val="000000"/>
              </a:solidFill>
              <a:latin typeface="Arial"/>
            </a:endParaRPr>
          </a:p>
          <a:p>
            <a:pPr>
              <a:lnSpc>
                <a:spcPct val="12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ea typeface="Times New Roman"/>
              </a:rPr>
              <a:t> </a:t>
            </a:r>
            <a:r>
              <a:rPr b="1" lang="en-US" sz="1300" spc="-1" strike="noStrike">
                <a:solidFill>
                  <a:srgbClr val="000000"/>
                </a:solidFill>
                <a:latin typeface="Tahoma"/>
                <a:ea typeface="Times New Roman"/>
              </a:rPr>
              <a:t>Ilustradores:</a:t>
            </a:r>
            <a:r>
              <a:rPr b="0" lang="en-US" sz="1300" spc="-1" strike="noStrike">
                <a:solidFill>
                  <a:srgbClr val="000000"/>
                </a:solidFill>
                <a:latin typeface="Tahoma"/>
                <a:ea typeface="Times New Roman"/>
              </a:rPr>
              <a:t> van unidos a la comunicación verbal y sirven para resaltar las palabras.</a:t>
            </a:r>
            <a:endParaRPr b="0" lang="en-US" sz="1300" spc="-1" strike="noStrike">
              <a:solidFill>
                <a:srgbClr val="000000"/>
              </a:solidFill>
              <a:latin typeface="Arial"/>
            </a:endParaRPr>
          </a:p>
          <a:p>
            <a:pPr>
              <a:lnSpc>
                <a:spcPct val="12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ea typeface="Times New Roman"/>
              </a:rPr>
              <a:t> </a:t>
            </a:r>
            <a:r>
              <a:rPr b="1" lang="en-US" sz="1300" spc="-1" strike="noStrike">
                <a:solidFill>
                  <a:srgbClr val="000000"/>
                </a:solidFill>
                <a:latin typeface="Tahoma"/>
                <a:ea typeface="Times New Roman"/>
              </a:rPr>
              <a:t>Adaptadores:</a:t>
            </a:r>
            <a:r>
              <a:rPr b="0" lang="en-US" sz="1300" spc="-1" strike="noStrike">
                <a:solidFill>
                  <a:srgbClr val="000000"/>
                </a:solidFill>
                <a:latin typeface="Tahoma"/>
                <a:ea typeface="Times New Roman"/>
              </a:rPr>
              <a:t> gestos que se utilizan para controlar o manejar sentimientos en una situación determinada (normalmente en situaciones de tensión para controlarse). Los humanos, condicionados por los actos del habla, olvidamos la importancia del lenguaje no verbal, el cual, para los animales es vehículo fundamental en su comunicación” </a:t>
            </a:r>
            <a:r>
              <a:rPr b="0" lang="en-US" sz="1300" spc="-1" strike="noStrike" u="sng" baseline="30000">
                <a:solidFill>
                  <a:srgbClr val="009999"/>
                </a:solidFill>
                <a:uFillTx/>
                <a:latin typeface="Tahoma"/>
                <a:ea typeface="Times New Roman"/>
                <a:hlinkClick r:id="rId1" action="ppaction://hlinksldjump"/>
              </a:rPr>
              <a:t>[41]</a:t>
            </a:r>
            <a:r>
              <a:rPr b="0" lang="en-US" sz="1300" spc="-1" strike="noStrike">
                <a:solidFill>
                  <a:srgbClr val="000000"/>
                </a:solidFill>
                <a:latin typeface="Tahoma"/>
                <a:ea typeface="Times New Roman"/>
              </a:rPr>
              <a:t>. </a:t>
            </a:r>
            <a:endParaRPr b="0" lang="en-US" sz="1300" spc="-1" strike="noStrike">
              <a:solidFill>
                <a:srgbClr val="000000"/>
              </a:solidFill>
              <a:latin typeface="Arial"/>
            </a:endParaRPr>
          </a:p>
          <a:p>
            <a:pPr>
              <a:lnSpc>
                <a:spcPct val="12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ea typeface="Times New Roman"/>
              </a:rPr>
              <a:t>El gusto y el olfato.</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ea typeface="Times New Roman"/>
              </a:rPr>
              <a:t>Estos sentidos ayudan ha describir el lugar en el que se está. ¿A qué huele la calle? ¿A qué sabe ese gas que usa la policía cuando reprime la marcha? ¿Cuál es el sabor de la comida que se comparte en el banquete que busca fondos para la parroquia?</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ea typeface="Times New Roman"/>
              </a:rPr>
              <a:t>Al salir hacia la transmisión es bueno tener algunos datos históricos del lugar desde el cual se hará la transmisión. Lo arquitectónico también forma parte de la escena.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ea typeface="Times New Roman"/>
              </a:rPr>
              <a:t>Con el lenguaje.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ea typeface="Times New Roman"/>
              </a:rPr>
              <a:t>Es mejor</a:t>
            </a:r>
            <a:r>
              <a:rPr b="1" lang="en-US" sz="1300" spc="-1" strike="noStrike">
                <a:solidFill>
                  <a:srgbClr val="000000"/>
                </a:solidFill>
                <a:latin typeface="Tahoma"/>
                <a:ea typeface="Times New Roman"/>
              </a:rPr>
              <a:t> </a:t>
            </a:r>
            <a:r>
              <a:rPr b="0" lang="en-US" sz="1300" spc="-1" strike="noStrike">
                <a:solidFill>
                  <a:srgbClr val="000000"/>
                </a:solidFill>
                <a:latin typeface="Tahoma"/>
                <a:ea typeface="Times New Roman"/>
              </a:rPr>
              <a:t>no emplear palabras homófonas: casa, caza, etc. O palabras o</a:t>
            </a:r>
            <a:endParaRPr b="0" lang="en-US" sz="1300" spc="-1" strike="noStrike">
              <a:solidFill>
                <a:srgbClr val="000000"/>
              </a:solidFill>
              <a:latin typeface="Arial"/>
            </a:endParaRPr>
          </a:p>
        </p:txBody>
      </p:sp>
      <p:sp>
        <p:nvSpPr>
          <p:cNvPr id="72" name=""/>
          <p:cNvSpPr/>
          <p:nvPr/>
        </p:nvSpPr>
        <p:spPr>
          <a:xfrm>
            <a:off x="632520" y="8790480"/>
            <a:ext cx="2576520" cy="231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baseline="30000">
                <a:solidFill>
                  <a:srgbClr val="009999"/>
                </a:solidFill>
                <a:uFillTx/>
                <a:latin typeface="Arial"/>
                <a:ea typeface="Times New Roman"/>
                <a:hlinkClick r:id="rId2" action="ppaction://hlinksldjump"/>
              </a:rPr>
              <a:t>[41]</a:t>
            </a:r>
            <a:r>
              <a:rPr b="0" lang="en-US" sz="900" spc="-1" strike="noStrike">
                <a:solidFill>
                  <a:srgbClr val="000000"/>
                </a:solidFill>
                <a:latin typeface="Arial"/>
                <a:ea typeface="Times New Roman"/>
              </a:rPr>
              <a:t> </a:t>
            </a:r>
            <a:r>
              <a:rPr b="0" lang="en-US" sz="900" spc="-1" strike="noStrike">
                <a:solidFill>
                  <a:srgbClr val="000000"/>
                </a:solidFill>
                <a:latin typeface="Arial"/>
                <a:ea typeface="Times New Roman"/>
              </a:rPr>
              <a:t>GUARDIOLA, Joseph. </a:t>
            </a:r>
            <a:r>
              <a:rPr b="0" lang="en-US" sz="900" spc="-1" strike="noStrike">
                <a:solidFill>
                  <a:srgbClr val="000000"/>
                </a:solidFill>
                <a:latin typeface="Arial"/>
                <a:ea typeface="Times New Roman"/>
              </a:rPr>
              <a:t>El lenguaje corporal.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36</a:t>
            </a:r>
            <a:endParaRPr b="0" lang="en-US" sz="800" spc="-1" strike="noStrike">
              <a:solidFill>
                <a:srgbClr val="000000"/>
              </a:solidFill>
              <a:latin typeface="Arial"/>
            </a:endParaRPr>
          </a:p>
        </p:txBody>
      </p:sp>
      <p:sp>
        <p:nvSpPr>
          <p:cNvPr id="74"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75"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20640" y="423720"/>
            <a:ext cx="5761080" cy="36579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6470640"/>
                <a:tab algn="l" pos="7315200"/>
                <a:tab algn="l" pos="8229600"/>
                <a:tab algn="l" pos="9144000"/>
                <a:tab algn="l" pos="10058400"/>
              </a:tabLst>
            </a:pPr>
            <a:r>
              <a:rPr b="0" lang="en-US" sz="1300" spc="-1" strike="noStrike">
                <a:solidFill>
                  <a:srgbClr val="000000"/>
                </a:solidFill>
                <a:latin typeface="Tahoma"/>
              </a:rPr>
              <a:t>modismos que en parte signifiquen distinto (doble sentido). Mejor hablar en presente. Aclarar para el oyente los términos que puedan parecer raros, técnicos, etc. Cuidar la velocidad del relato. Ni muy rápido porque no se</a:t>
            </a: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r>
              <a:rPr b="0" lang="en-US" sz="1300" spc="-1" strike="noStrike">
                <a:solidFill>
                  <a:srgbClr val="000000"/>
                </a:solidFill>
                <a:latin typeface="Tahoma"/>
              </a:rPr>
              <a:t>entiende y se enreda y ni muy despacio porque se duerme al oyente. Es mejor evitar, hasta donde se pueda, hablar en primera persona. “Aquí estoy, desde aquí veo, soy el único medio que está en el lugar, etc. </a:t>
            </a: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r>
              <a:rPr b="0" lang="en-US" sz="1300" spc="-1" strike="noStrike">
                <a:solidFill>
                  <a:srgbClr val="000000"/>
                </a:solidFill>
                <a:latin typeface="Tahoma"/>
              </a:rPr>
              <a:t>Es preferible dar cifras redondas y porcentajes globales. Tener presente que no basta con un guión bien definido pues hará falta pasar lo escrito a lo oral  con un lenguaje colorido, dinámico y creativo. </a:t>
            </a: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6470640"/>
                <a:tab algn="l" pos="7315200"/>
                <a:tab algn="l" pos="8229600"/>
                <a:tab algn="l" pos="9144000"/>
                <a:tab algn="l" pos="10058400"/>
              </a:tabLst>
            </a:pPr>
            <a:r>
              <a:rPr b="0" lang="en-US" sz="1300" spc="-1" strike="noStrike">
                <a:solidFill>
                  <a:srgbClr val="000000"/>
                </a:solidFill>
                <a:latin typeface="Tahoma"/>
              </a:rPr>
              <a:t>La transmisión en directo siempre es un reto. Preparación. Buen manejo del lenguaje y en el caso de transmisiones de contenido eclesial es básico el conocimiento de ese lenguaje.</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6T21:16:55Z</dcterms:created>
  <dc:creator>Tito</dc:creator>
  <dc:description/>
  <dc:language>en-US</dc:language>
  <cp:lastModifiedBy>Tito</cp:lastModifiedBy>
  <dcterms:modified xsi:type="dcterms:W3CDTF">2008-06-06T21:17:26Z</dcterms:modified>
  <cp:revision>1</cp:revision>
  <dc:subject/>
  <dc:title>Diapositiva 1</dc:title>
</cp:coreProperties>
</file>