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54E4-3FDB-481A-B1F6-1545FB53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3BD-23B9-4D71-9AF8-270C01E3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423-73F1-4E77-A284-2BD7EAF8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FBC4-9304-4122-8DCF-055A9862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098-9585-4E19-87F8-A0D83C58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FAB6-DAEC-4968-84D2-DD9E9E8E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0F8-5DCF-487F-8CB1-0C7B892F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57A-772C-46DC-AAFA-93811A63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8B1-CE30-494B-A451-D7B9A2F7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B51-29F3-400A-AC07-51B41EFD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B139-93C1-4B34-A211-C100B64F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75A-3EF3-4428-A17A-51EFB1BB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96EB-CDBA-419A-ABC8-785DEDECE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2280" y="2050920"/>
            <a:ext cx="5705280" cy="6588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96960" y="2245680"/>
            <a:ext cx="406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Tahoma"/>
              </a:rPr>
              <a:t>Radios católica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Tito Ballesteros Ló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80" y="1403280"/>
            <a:ext cx="568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80" y="3564000"/>
            <a:ext cx="568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920" y="149544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unicac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2280" y="2050920"/>
            <a:ext cx="5705280" cy="65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280" y="1403280"/>
            <a:ext cx="56898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3564000"/>
            <a:ext cx="56898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96960" y="2245680"/>
            <a:ext cx="406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Tahoma"/>
              </a:rPr>
              <a:t>Radios católica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Tito Ballesteros Ló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57360" y="5454720"/>
            <a:ext cx="43196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: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los países que han acogido la propuesta de la capacitación en sus radios. A quienes desde la Internet alimentan esta mirada. A la Iglesia Católica del continente y a todas las radios que recuerdan la presencia de Dios en medio de nosotro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84280" y="5329080"/>
            <a:ext cx="4465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9520" rIns="119520" tIns="59760" bIns="59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Tito Ballesteros López. </a:t>
            </a:r>
            <a:r>
              <a:rPr b="0" lang="es-ES" sz="1300" spc="-1" strike="noStrike">
                <a:solidFill>
                  <a:srgbClr val="000000"/>
                </a:solidFill>
                <a:latin typeface="Tahoma"/>
              </a:rPr>
              <a:t>Comunicador Social. Especialista en Gerencia de la Comunicación Organizacional. Diplomado en Lenguaje Audiovisual y Periodismo Digital. Docente Seminario Virtual. Pontificia Universidad Gregoriana de Roma. Asesor de emisoras en América Latina. Docente de radio. Consultor en línea de Catholic.n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Publicaciones</a:t>
            </a:r>
            <a:r>
              <a:rPr b="0" lang="es-ES" sz="1300" spc="-1" strike="noStrike">
                <a:solidFill>
                  <a:srgbClr val="000000"/>
                </a:solidFill>
                <a:latin typeface="Tahoma"/>
              </a:rPr>
              <a:t>. El Arte de la Homilía. Sólo para lectores. La radio, un medio para la imaginación. Campañas radiofónica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80" y="1403280"/>
            <a:ext cx="568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80" y="3564000"/>
            <a:ext cx="568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96960" y="2245680"/>
            <a:ext cx="406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Tahoma"/>
              </a:rPr>
              <a:t>Radios católica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Tito Ballesteros Ló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55920" y="4390920"/>
            <a:ext cx="446544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9520" rIns="119520" tIns="59760" bIns="59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orrector de estilo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Juan Villa Gran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Diseño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Rodrigo Medi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Versión en Pdf: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Marcos Palaci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aprendeaolvidar@operamail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Blo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www.titoballesteros.blogspot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Bogotá, Colomb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Junio de 20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80" y="1403280"/>
            <a:ext cx="56898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80" y="3564000"/>
            <a:ext cx="568980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96960" y="2245680"/>
            <a:ext cx="406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Tahoma"/>
              </a:rPr>
              <a:t>Radios católica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Tito Ballesteros Ló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4280" y="1403280"/>
            <a:ext cx="568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80" y="3564000"/>
            <a:ext cx="568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96960" y="2245680"/>
            <a:ext cx="406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Tahoma"/>
              </a:rPr>
              <a:t>Radios católica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Tito Ballesteros Lóp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57360" y="3548520"/>
            <a:ext cx="295128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70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apítulo I. La comunicación en la Iglesia     Capítulo II. La especificidad del medio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70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apítulo III. Los nombres de la radio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70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apítulo IV. Emisoras católicas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70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apítulo. V. La jerarquía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70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apítulo VI. 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La Capacitación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70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apítulo VII. Audiencias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70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apítulo VIII. 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La producción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70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apítulo IX. La campaña radiofónica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70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apítulo. X. Transmisiones en directo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70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apítulo XI. Los recursos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70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apítulo XII. Propuestas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70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apítulo XIII. En camino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70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Bibliografí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4530600"/>
            <a:ext cx="4413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2280" y="2050920"/>
            <a:ext cx="5705280" cy="65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21:07:07Z</dcterms:created>
  <dc:creator>Tito</dc:creator>
  <dc:description/>
  <dc:language>en-US</dc:language>
  <cp:lastModifiedBy>Tito</cp:lastModifiedBy>
  <dcterms:modified xsi:type="dcterms:W3CDTF">2008-06-06T21:07:43Z</dcterms:modified>
  <cp:revision>1</cp:revision>
  <dc:subject/>
  <dc:title>Diapositiva 1</dc:title>
</cp:coreProperties>
</file>