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ADA62-205C-4207-BE1A-A095A88C6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0F42E-8AD2-4CB4-961A-7579ABA40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FA560-6959-46F8-93F2-E42EF9579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2FF0A-AED4-4BCE-8279-94ABBFDD0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C7112-D478-429C-B1B9-881E8E716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CE4BD-24D2-4891-8D5E-FC958E014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09A9E-7F9F-4CE4-96BA-02FC1C68B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F97A4-82F6-4E10-BA6F-0A0667C34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F4B39-2E78-45AD-8A55-2A956F3D6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38B91-A26A-4127-B78E-F7EFD96C2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F8E9A-E86E-49D9-9F9D-3E8D25E2F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DABC8-7BF8-4A24-B919-FEDF4E031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5BB3-A154-4311-AEFB-0B1D0E20E0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10000" y="1933920"/>
            <a:ext cx="311580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V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capacitación  </a:t>
            </a:r>
            <a:endParaRPr b="0" lang="en-US" sz="2800" spc="-1" strike="noStrike">
              <a:solidFill>
                <a:srgbClr val="000000"/>
              </a:solidFill>
              <a:latin typeface="Arial"/>
            </a:endParaRPr>
          </a:p>
        </p:txBody>
      </p:sp>
      <p:sp>
        <p:nvSpPr>
          <p:cNvPr id="42"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6156360"/>
            <a:ext cx="6858000" cy="2448000"/>
          </a:xfrm>
          <a:prstGeom prst="rect">
            <a:avLst/>
          </a:prstGeom>
          <a:ln w="0">
            <a:noFill/>
          </a:ln>
        </p:spPr>
      </p:pic>
      <p:sp>
        <p:nvSpPr>
          <p:cNvPr id="87"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a:t>
            </a:r>
            <a:endParaRPr b="0" lang="en-US" sz="800" spc="-1" strike="noStrike">
              <a:solidFill>
                <a:srgbClr val="000000"/>
              </a:solidFill>
              <a:latin typeface="Arial"/>
            </a:endParaRPr>
          </a:p>
        </p:txBody>
      </p:sp>
      <p:sp>
        <p:nvSpPr>
          <p:cNvPr id="88"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9"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20640" y="587160"/>
            <a:ext cx="5832720" cy="5387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Unicode MS"/>
                <a:ea typeface="Times New Roman"/>
              </a:rPr>
              <a:t>La emisora tiene casi todo para funcionar. Su flaqueza. La form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ea typeface="Times New Roman"/>
              </a:rPr>
              <a:t>En “Guate” el grado de escolaridad es bajo y el dial es el vehículo comunicativo ideal para expresar los pensamientos de un país con un 60% de población indígena, altos índices de violencia generada por pandillas llamadas “Maras” </a:t>
            </a:r>
            <a:r>
              <a:rPr b="0" lang="es-CO" sz="1200" spc="-1" strike="noStrike" u="sng" baseline="30000">
                <a:solidFill>
                  <a:srgbClr val="009999"/>
                </a:solidFill>
                <a:uFillTx/>
                <a:latin typeface="Arial Unicode MS"/>
                <a:ea typeface="Times New Roman"/>
                <a:hlinkClick r:id="rId2" action="ppaction://hlinksldjump"/>
              </a:rPr>
              <a:t>[28]</a:t>
            </a:r>
            <a:r>
              <a:rPr b="0" lang="es-CO" sz="1200" spc="-1" strike="noStrike">
                <a:solidFill>
                  <a:srgbClr val="000000"/>
                </a:solidFill>
                <a:latin typeface="Arial Unicode MS"/>
                <a:ea typeface="Times New Roman"/>
              </a:rPr>
              <a:t> y un enorme número de estaciones, me dicen, 600 legales y casi un número igual de medios “pirata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ea typeface="Times New Roman"/>
              </a:rPr>
              <a:t>El Estado saca a remate las emisoras y las deja en manos de quien más dinero ofrezca por ellas. En algunos países de Centroamérica no hay regulación o autorregulación de medios. Todo depende del alma que le pongan los radialistas al medio. Y las del Padre Celestino y don Nata, son dos que al venir a Jutiapa, usted debe conoc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ea typeface="Times New Roman"/>
              </a:rPr>
              <a:t>Don Nata se le midió a la computadora para editar. Junto a él, 14 ojos y una maquina lista a responder al apasionado, inquieto y preocupado radialista. A don Nata le duelen los problemas de “La Esperanza”. Hace cuentas de publicidad, entiende de tarifas y sabe llegar a sus anunciantes. De título es hombre. Carece de piel que le diga que es publicista, administrador, contador, comunicador, relacionista público, en fin. Carece de todo, pero aseguro que no le falta nada, o, al menos, tiene una profunda vocación por el medio. Vocación que se la ha despertado el Padre Celestino, quien sabe muchas cosas que usted y yo ignoramos sobre la comunicación or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ea typeface="Times New Roman"/>
              </a:rPr>
              <a:t>La “competencia” de Radio Esperanza es una estación evangélica ubicada cerca al parque principal del lugar. El Padre sabe que es una de las más escuchadas del municipio y que es “pirata”. Sin embargo, no sale corriendo a pedir lo que muchos harían frente a una “ilegal”. ¡Que la cierren! ¡Que es “pirata”! ¡Que no cumple con la ley!. </a:t>
            </a:r>
            <a:endParaRPr b="0" lang="en-US" sz="1200" spc="-1" strike="noStrike">
              <a:solidFill>
                <a:srgbClr val="000000"/>
              </a:solidFill>
              <a:latin typeface="Arial"/>
            </a:endParaRPr>
          </a:p>
        </p:txBody>
      </p:sp>
      <p:sp>
        <p:nvSpPr>
          <p:cNvPr id="91" name=""/>
          <p:cNvSpPr/>
          <p:nvPr/>
        </p:nvSpPr>
        <p:spPr>
          <a:xfrm>
            <a:off x="473040" y="8798400"/>
            <a:ext cx="3943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baseline="30000">
                <a:solidFill>
                  <a:srgbClr val="009999"/>
                </a:solidFill>
                <a:uFillTx/>
                <a:latin typeface="Arial"/>
                <a:ea typeface="Times New Roman"/>
                <a:hlinkClick r:id="rId3" action="ppaction://hlinksldjump"/>
              </a:rPr>
              <a:t>[28]</a:t>
            </a:r>
            <a:r>
              <a:rPr b="0" lang="en-US" sz="900" spc="-1" strike="noStrike">
                <a:solidFill>
                  <a:srgbClr val="000000"/>
                </a:solidFill>
                <a:latin typeface="Arial"/>
                <a:ea typeface="Times New Roman"/>
              </a:rPr>
              <a:t> Grupos de delincuencia común ubicados en países de Centroamérica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a:t>
            </a:r>
            <a:endParaRPr b="0" lang="en-US" sz="800" spc="-1" strike="noStrike">
              <a:solidFill>
                <a:srgbClr val="000000"/>
              </a:solidFill>
              <a:latin typeface="Arial"/>
            </a:endParaRPr>
          </a:p>
        </p:txBody>
      </p:sp>
      <p:sp>
        <p:nvSpPr>
          <p:cNvPr id="9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94"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 name="" descr=""/>
          <p:cNvPicPr/>
          <p:nvPr/>
        </p:nvPicPr>
        <p:blipFill>
          <a:blip r:embed="rId1">
            <a:grayscl/>
            <a:lum bright="24000"/>
          </a:blip>
          <a:stretch/>
        </p:blipFill>
        <p:spPr>
          <a:xfrm>
            <a:off x="260280" y="3467160"/>
            <a:ext cx="4653000" cy="2833560"/>
          </a:xfrm>
          <a:prstGeom prst="rect">
            <a:avLst/>
          </a:prstGeom>
          <a:ln w="0">
            <a:noFill/>
          </a:ln>
        </p:spPr>
      </p:pic>
      <p:sp>
        <p:nvSpPr>
          <p:cNvPr id="96" name=""/>
          <p:cNvSpPr/>
          <p:nvPr/>
        </p:nvSpPr>
        <p:spPr>
          <a:xfrm>
            <a:off x="549360" y="6614280"/>
            <a:ext cx="6048360" cy="191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Inmediatamente salté a las aulas de clase y me dije: ¿cuántos estudiantes recibirían como castigo, lo que para este hombre es una bendició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Muchos de ellos correrían a la Facultad de Comunicación a gritar que por qué les ponen estos trabajos para sus computadoras personales, cuando para eso están las de la universid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Don Nata me propone el final de esta historia. La capacitación. La que unos tienen y muchos otros necesitan.</a:t>
            </a:r>
            <a:endParaRPr b="0" lang="en-US" sz="1200" spc="-1" strike="noStrike">
              <a:solidFill>
                <a:srgbClr val="000000"/>
              </a:solidFill>
              <a:latin typeface="Arial"/>
            </a:endParaRPr>
          </a:p>
        </p:txBody>
      </p:sp>
      <p:sp>
        <p:nvSpPr>
          <p:cNvPr id="97" name=""/>
          <p:cNvSpPr/>
          <p:nvPr/>
        </p:nvSpPr>
        <p:spPr>
          <a:xfrm>
            <a:off x="620640" y="900000"/>
            <a:ext cx="5904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Su ley, es la ley de “competir” con contenidos a cielo abierto en la cara de un Dios que los une para generar, junto al pastor y otros miembros de la comunidad, experiencias de paz y sosiego en una comunidad marcada por el robo, el atraco y la muerte de miles de guatemaltecos asesinados por sangre de su sang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Celestino y don Nata están hechos de la misma pasión por el medio. El primero anuncia y denuncia y el segundo… al segundo había que verle las manos temblando junto al Mouse, el rostro pintado de miedo y el deseo de querer saber más. Siempre lo dijo: “Yo deseo aprender a manejar este programa. ¿Usted lo podría instalar en mi computadora? Yo en la casa puedo practicar”.</a:t>
            </a:r>
            <a:endParaRPr b="0" lang="en-US" sz="1200" spc="-1" strike="noStrike">
              <a:solidFill>
                <a:srgbClr val="000000"/>
              </a:solidFill>
              <a:latin typeface="Arial"/>
            </a:endParaRPr>
          </a:p>
        </p:txBody>
      </p:sp>
      <p:sp>
        <p:nvSpPr>
          <p:cNvPr id="98" name=""/>
          <p:cNvSpPr/>
          <p:nvPr/>
        </p:nvSpPr>
        <p:spPr>
          <a:xfrm>
            <a:off x="0" y="3274920"/>
            <a:ext cx="6237360" cy="3168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49360" y="4603680"/>
            <a:ext cx="5832360" cy="265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ahoma"/>
              </a:rPr>
              <a:t>... </a:t>
            </a:r>
            <a:r>
              <a:rPr b="0" i="1" lang="es-ES" sz="1400" spc="-1" strike="noStrike">
                <a:solidFill>
                  <a:srgbClr val="000000"/>
                </a:solidFill>
                <a:latin typeface="Tahoma"/>
              </a:rPr>
              <a:t>Pensamos, entre otras cosas, en las afirmaciones del Código de Derecho Canónico según las cuales los fieles, salvando siempre la debida obediencia, “tienen la facultad de manifestar a los Pastores de la Iglesia sus necesidades, principalmente las espirituales, y sus deseos”(21) y, en función de su conocimiento, competencia y prestigio, estos fieles tienen también “el derecho, y a veces incluso el deber”, de expresar a sus pastores su opinión sobre las cuestiones que conciernen al bien de la Iglesia(22).</a:t>
            </a:r>
            <a:endParaRPr b="0" lang="en-US" sz="1400" spc="-1" strike="noStrike">
              <a:solidFill>
                <a:srgbClr val="000000"/>
              </a:solidFill>
              <a:latin typeface="Arial"/>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ahoma"/>
              </a:rPr>
              <a:t>Pontificio Consejo para las Comunicaciones Sociales. Instrucción pastoral Aetatis Novae. Sobre las comunicaciones sociales en el vigésimo aniversario de Communio et Progressio</a:t>
            </a:r>
            <a:r>
              <a:rPr b="0" lang="es-ES" sz="1400" spc="-1" strike="noStrike">
                <a:solidFill>
                  <a:srgbClr val="000000"/>
                </a:solidFill>
                <a:latin typeface="Tahoma"/>
              </a:rPr>
              <a:t> </a:t>
            </a:r>
            <a:endParaRPr b="0" lang="en-US" sz="1400" spc="-1" strike="noStrike">
              <a:solidFill>
                <a:srgbClr val="000000"/>
              </a:solidFill>
              <a:latin typeface="Arial"/>
            </a:endParaRPr>
          </a:p>
        </p:txBody>
      </p:sp>
      <p:sp>
        <p:nvSpPr>
          <p:cNvPr id="45"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710000" y="1933920"/>
            <a:ext cx="311580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V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capacit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7</a:t>
            </a:r>
            <a:endParaRPr b="0" lang="en-US" sz="800" spc="-1" strike="noStrike">
              <a:solidFill>
                <a:srgbClr val="000000"/>
              </a:solidFill>
              <a:latin typeface="Arial"/>
            </a:endParaRPr>
          </a:p>
        </p:txBody>
      </p:sp>
      <p:sp>
        <p:nvSpPr>
          <p:cNvPr id="4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0"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20640" y="683280"/>
            <a:ext cx="5761080" cy="1883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a emisora diseña su propia estrategia de capacitación en el manejo político, comunicacional y en los horizontes insertados en la escucha de la comunidad. Por eso, trabaja en capacitación, en música, artística, paisaje sonoro, radio-arte, poesía sonora, doblaje, elaboración de rutinas, lectura de textos, matices, entonación, los miedos, la presencia en el escenario, etc., pero, sobre todo, trabaja en el desarrollo de un proyecto comunicativo. </a:t>
            </a:r>
            <a:endParaRPr b="0" lang="en-US" sz="1400" spc="-1" strike="noStrike">
              <a:solidFill>
                <a:srgbClr val="000000"/>
              </a:solidFill>
              <a:latin typeface="Arial"/>
            </a:endParaRPr>
          </a:p>
        </p:txBody>
      </p:sp>
      <p:sp>
        <p:nvSpPr>
          <p:cNvPr id="52" name=""/>
          <p:cNvSpPr/>
          <p:nvPr/>
        </p:nvSpPr>
        <p:spPr>
          <a:xfrm>
            <a:off x="1341360" y="2968560"/>
            <a:ext cx="5040360" cy="2682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a:t>
            </a:r>
            <a:r>
              <a:rPr b="0" lang="es-ES_tradnl" sz="1000" spc="-1" strike="noStrike">
                <a:solidFill>
                  <a:srgbClr val="000000"/>
                </a:solidFill>
                <a:latin typeface="Arial"/>
                <a:ea typeface="Times New Roman"/>
              </a:rPr>
              <a:t>Es por ello que hay diversas formas de construir miradas diagnosticas. Mientras algunas redes destinan, durante momentos específicos de sus historias, energías particulares a la realización de diagnósticos, otras asumen esta tarea como una dinámica de trabajo más o menos permanente en sus equipo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Mientras ciertas emisoras solicitan el apoyo de profesionales externos a sus organizaciones, otras los involucran a sus propios colectivos. Mientras unas realizan encuentros y entrevistas, otras prefieren las reuniones colectivas de trabaj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Probablemente el dialogo sea el común denominador de todas estas formas de encarar diagnósticos. Diagnosticar desde la soledad de un escritorio y una computadora no es el camino para construir insumos relevantes para el diseño de estrategias de capacitación coherentes con los proyectos políticos culturales de la emisor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Entonces, la capacitación parte del diagnostico. De las preguntas internas que se producen y de la validación y evaluación que hace la audiencia de lo que se emite” </a:t>
            </a:r>
            <a:r>
              <a:rPr b="0" lang="es-ES_tradnl" sz="1000" spc="-1" strike="noStrike" u="sng" baseline="30000">
                <a:solidFill>
                  <a:srgbClr val="009999"/>
                </a:solidFill>
                <a:uFillTx/>
                <a:latin typeface="Arial"/>
                <a:ea typeface="Times New Roman"/>
                <a:hlinkClick r:id="rId1" action="ppaction://hlinksldjump"/>
              </a:rPr>
              <a:t>[25]</a:t>
            </a:r>
            <a:endParaRPr b="0" lang="en-US" sz="1000" spc="-1" strike="noStrike">
              <a:solidFill>
                <a:srgbClr val="000000"/>
              </a:solidFill>
              <a:latin typeface="Arial"/>
            </a:endParaRPr>
          </a:p>
        </p:txBody>
      </p:sp>
      <p:sp>
        <p:nvSpPr>
          <p:cNvPr id="53" name=""/>
          <p:cNvSpPr/>
          <p:nvPr/>
        </p:nvSpPr>
        <p:spPr>
          <a:xfrm>
            <a:off x="588960" y="8674920"/>
            <a:ext cx="550728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9999"/>
                </a:solidFill>
                <a:uFillTx/>
                <a:latin typeface="Arial"/>
                <a:ea typeface="Times New Roman"/>
                <a:hlinkClick r:id="rId2" action="ppaction://hlinksldjump"/>
              </a:rPr>
              <a:t>[25]</a:t>
            </a:r>
            <a:r>
              <a:rPr b="0" lang="en-US" sz="1000" spc="-1" strike="noStrike">
                <a:solidFill>
                  <a:srgbClr val="000000"/>
                </a:solidFill>
                <a:latin typeface="Arial"/>
                <a:ea typeface="Times New Roman"/>
              </a:rPr>
              <a:t> Asociación Mundial de Radios Comunitarias América latina y Caribe. AMARC. Capacitació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 la radio comunitaria. Buenos Aires, Argentina. 2006</a:t>
            </a:r>
            <a:endParaRPr b="0" lang="en-US" sz="1000" spc="-1" strike="noStrike">
              <a:solidFill>
                <a:srgbClr val="000000"/>
              </a:solidFill>
              <a:latin typeface="Arial"/>
            </a:endParaRPr>
          </a:p>
        </p:txBody>
      </p:sp>
      <p:sp>
        <p:nvSpPr>
          <p:cNvPr id="54" name=""/>
          <p:cNvSpPr/>
          <p:nvPr/>
        </p:nvSpPr>
        <p:spPr>
          <a:xfrm>
            <a:off x="620640" y="6060960"/>
            <a:ext cx="576108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La dimensión política – cultural, comunicacional, económica, organizacional, e institucional ayuda a construir nuevos conocimientos, desarrollar nuevas capacidades, fortalecer el interior del medi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En los talleres aparece una pregunta común. Un deseo colectivo. ¿Cómo hacer que la estación suene bonita, entretenida? Entonces, el ojo muestra Agentes de Pastoral con una calidad humana que no se pone a prueba, pero, lo que si se pone a prueba es su formación radiofónica. No es la universalidad, pero si la generalidad.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8</a:t>
            </a:r>
            <a:endParaRPr b="0" lang="en-US" sz="800" spc="-1" strike="noStrike">
              <a:solidFill>
                <a:srgbClr val="000000"/>
              </a:solidFill>
              <a:latin typeface="Arial"/>
            </a:endParaRPr>
          </a:p>
        </p:txBody>
      </p:sp>
      <p:sp>
        <p:nvSpPr>
          <p:cNvPr id="56"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7"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50880" y="610560"/>
            <a:ext cx="3722760" cy="291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Sobre los grupos apostólicos o de pastoral:</a:t>
            </a:r>
            <a:r>
              <a:rPr b="0" lang="en-US" sz="1300" spc="-1" strike="noStrike">
                <a:solidFill>
                  <a:srgbClr val="000000"/>
                </a:solidFill>
                <a:latin typeface="Tahoma"/>
              </a:rPr>
              <a:t> </a:t>
            </a:r>
            <a:endParaRPr b="0" lang="en-US" sz="1300" spc="-1" strike="noStrike">
              <a:solidFill>
                <a:srgbClr val="000000"/>
              </a:solidFill>
              <a:latin typeface="Arial"/>
            </a:endParaRPr>
          </a:p>
        </p:txBody>
      </p:sp>
      <p:sp>
        <p:nvSpPr>
          <p:cNvPr id="59" name=""/>
          <p:cNvSpPr/>
          <p:nvPr/>
        </p:nvSpPr>
        <p:spPr>
          <a:xfrm>
            <a:off x="1268280" y="1024560"/>
            <a:ext cx="5042160" cy="383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a:t>
            </a:r>
            <a:r>
              <a:rPr b="0" lang="en-US" sz="1200" spc="-1" strike="noStrike">
                <a:solidFill>
                  <a:srgbClr val="000000"/>
                </a:solidFill>
                <a:latin typeface="Tahoma"/>
                <a:ea typeface="Times New Roman"/>
              </a:rPr>
              <a:t>El servicio que la estación presta a la unidad, comunión y misión de los grupos apostólicos es inmenso, los visibiliza, les permiten acompañar pastoralmente a sus miembros en sus casas y les ayuda a ampliar su acción y sus posibilidades de convocatoria y contacto con la base; pero esto sigue siendo un ejercicio meramente funcional que reduce al medio y a los grupos a un mero papel comunicativo que podría hacer cualquier emisora institucional, la identidad católica exige que este rol se cumpla no sólo dentro de los cánones de la pertenencia eclesial que se refleja en la unidad con un proyecto e ideario diocesano sino también bajo los principios de solidaridad y subsidiaridad entre las comunidades de Igles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a radio católica tiene que servir de vehículo y motivación para esa solidaridad y subsidiaridad eclesial, que ha de darse no sólo en el ámbito de la comunicación de bienes sino también en el de la información y el conocimiento eclesiales. Este triple ámbito (bienes, información y conocimiento) son sello de la catolicidad que va más allá del intimismo o el individualismo y construye realidades alternativas a partir del fomento de la unidad, la solidaridad y la subsidiaridad, transformando con ello a la sociedad”. </a:t>
            </a:r>
            <a:r>
              <a:rPr b="0" lang="en-US" sz="1200" spc="-1" strike="noStrike" u="sng" baseline="30000">
                <a:solidFill>
                  <a:srgbClr val="009999"/>
                </a:solidFill>
                <a:uFillTx/>
                <a:latin typeface="Tahoma"/>
                <a:ea typeface="Times New Roman"/>
                <a:hlinkClick r:id="rId1" action="ppaction://hlinksldjump"/>
              </a:rPr>
              <a:t>[26]</a:t>
            </a:r>
            <a:endParaRPr b="0" lang="en-US" sz="1200" spc="-1" strike="noStrike">
              <a:solidFill>
                <a:srgbClr val="000000"/>
              </a:solidFill>
              <a:latin typeface="Arial"/>
            </a:endParaRPr>
          </a:p>
        </p:txBody>
      </p:sp>
      <p:sp>
        <p:nvSpPr>
          <p:cNvPr id="60" name=""/>
          <p:cNvSpPr/>
          <p:nvPr/>
        </p:nvSpPr>
        <p:spPr>
          <a:xfrm>
            <a:off x="692280" y="4842000"/>
            <a:ext cx="5761080" cy="3895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La naturalidad.</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Para volver al tema de “una emisora bonita, entretenida”; en talleres la gente se queja del medio, de la renuncia que deben hacer a sus ideas por encontrarse en un espacio “cerrado”, pero, al escuchar las formulas que proponen se desencadenan muchas preguntas. ¿Es el medio el que hace que las ideas sean “acartonas” o son las ideas mismas las que desde formatos casi idénticos se “acartonan”? ¿El medio hace que el mensaje suene prohibitivo o son los realizadores los que tienen un tono prohibitivo? ¿Será el medio? ¿Serán los mensajes?, ¿Serán los realizadore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A veces, se responsabiliza a los demás de las acciones que son propias. Suele pasar.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Por qué será que los programas juveniles tienen el mismo nombre o, al menos, nombres similares? ¿Por que será que muchos de ellos son realiza</a:t>
            </a:r>
            <a:endParaRPr b="0" lang="en-US" sz="1300" spc="-1" strike="noStrike">
              <a:solidFill>
                <a:srgbClr val="000000"/>
              </a:solidFill>
              <a:latin typeface="Arial"/>
            </a:endParaRPr>
          </a:p>
        </p:txBody>
      </p:sp>
      <p:sp>
        <p:nvSpPr>
          <p:cNvPr id="61" name=""/>
          <p:cNvSpPr/>
          <p:nvPr/>
        </p:nvSpPr>
        <p:spPr>
          <a:xfrm>
            <a:off x="677520" y="8879400"/>
            <a:ext cx="4883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baseline="30000">
                <a:solidFill>
                  <a:srgbClr val="009999"/>
                </a:solidFill>
                <a:uFillTx/>
                <a:latin typeface="Arial"/>
                <a:ea typeface="Times New Roman"/>
                <a:hlinkClick r:id="rId2" action="ppaction://hlinksldjump"/>
              </a:rPr>
              <a:t>[26]</a:t>
            </a:r>
            <a:r>
              <a:rPr b="0" lang="en-US" sz="900" spc="-1" strike="noStrike">
                <a:solidFill>
                  <a:srgbClr val="000000"/>
                </a:solidFill>
                <a:latin typeface="Arial"/>
                <a:ea typeface="Times New Roman"/>
              </a:rPr>
              <a:t> RUBIANO, Luís Guillermo. Sacerdote agustino. Red centroamericana de comunicacione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a:t>
            </a:r>
            <a:endParaRPr b="0" lang="en-US" sz="800" spc="-1" strike="noStrike">
              <a:solidFill>
                <a:srgbClr val="000000"/>
              </a:solidFill>
              <a:latin typeface="Arial"/>
            </a:endParaRPr>
          </a:p>
        </p:txBody>
      </p:sp>
      <p:sp>
        <p:nvSpPr>
          <p:cNvPr id="6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4"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20640" y="216720"/>
            <a:ext cx="5761080" cy="888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dos por jóvenes pero escuchados por adultos? Siento que el tema tiene que ver con la capacitación. Con acercarse a otras posibilidades. Por eso, para responder a la pregunta de “bonita”, me quedo con la tesis de la capacitación como camino que posibilita ese logr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La estación es la primera promotora de la formación y capacitación de sus agentes y ellos deben dejar de ver su participación en comunicaciones como el espacio en el que el Obispo, el sacerdote o la comunidad religiosa “los pone”, porque alguien tiene que hablar. Hay que comprender que llegar al medio es un deber de su misión pastoral y para ello, debe pedir la capacitación que sea necesari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Como productores o como emisores de la Buena Nueva y en aras de la colaboración no hay que dejar atrás el capítulo de la capacitación. Si se quieren estándares de elevada conducción y riqueza en formas, entonces, se puede ensayar la formula de programar intensas jornadas sobre el texto sonoro. Las universidades católicas o las Escuelas de Comunicación no deben miran de lejos y más bien procuran alianzas de orden académic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La experiencia de formación es única. Eleva los niveles de producción. No se concibe un productor sentado, sin leer, sin escuchar a otros, sin estudiar, sin compartir, sin salir de casa. Invertir en la formación es la respuesta que sugiere el “¿Cómo hacer que mi emisora suene más bonit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Revisar el interior.</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Conozco muchos amigos que antes de llegar a la cabina, sin libreto y sin guión, hacen una oración de responsabilidades. “Señor no soy yo quien habla, eres tú” y así, con esa “excusa”, inician el programa. La responsabilidad recae en el Espíritu Santo y no en el productor que en el mejor de los casos, apenas prepara la oración.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Qué pasaría si una emisora católica elimina de sus emisiones la oración inicial y la hace fuera del aire, desde el Sagrario o la sala de producción?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Una vez lo formulé y el escándalo de la comunidad sólo pudo ser detenido</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a:t>
            </a:r>
            <a:endParaRPr b="0" lang="en-US" sz="800" spc="-1" strike="noStrike">
              <a:solidFill>
                <a:srgbClr val="000000"/>
              </a:solidFill>
              <a:latin typeface="Arial"/>
            </a:endParaRPr>
          </a:p>
        </p:txBody>
      </p:sp>
      <p:sp>
        <p:nvSpPr>
          <p:cNvPr id="6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8"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20640" y="625680"/>
            <a:ext cx="5761080" cy="4133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por el párroco. La gente quería orar al inicio y al final. Le sugerimos que lo hicieran en privado para evitar oraciones cada media hora al aire. Algunos aceptaron la propuesta. De los otros encontramos que las oraciones ocupaban casi el 30% de sus programas. Entonces, la oración más que un “encomendar” a Dios era una excusa para no preparar, para “llenar” el tiempo al aire. Para hablar casi que desde un discurso protestante. Para ponerse de rodillas en la cabina pidiendo a Dios, olvidando la distancia ante el micrófono. Otra vez, fieles que toman el micrófono y hablan como si estuvieran en el templo. Craso error: su distanciamiento con el lenguaje del medi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Si usted bendice y da gracias por los alimentos del día y hace esa bendición en público, ¿por qué no hacerla en privado? ¿Qué quiere mostrar el productor? ¿Ser un hombre orante o el interés porque lo escuchen orar?</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Volvamos a la capacitación.</a:t>
            </a:r>
            <a:endParaRPr b="0" lang="en-US" sz="1300" spc="-1" strike="noStrike">
              <a:solidFill>
                <a:srgbClr val="000000"/>
              </a:solidFill>
              <a:latin typeface="Arial"/>
            </a:endParaRPr>
          </a:p>
        </p:txBody>
      </p:sp>
      <p:sp>
        <p:nvSpPr>
          <p:cNvPr id="70" name=""/>
          <p:cNvSpPr/>
          <p:nvPr/>
        </p:nvSpPr>
        <p:spPr>
          <a:xfrm>
            <a:off x="1125360" y="4921200"/>
            <a:ext cx="5185080" cy="253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dec" pos="4457880"/>
                <a:tab algn="l" pos="4686480"/>
                <a:tab algn="l" pos="5486400"/>
                <a:tab algn="l" pos="6400800"/>
                <a:tab algn="l" pos="7315200"/>
                <a:tab algn="l" pos="8229600"/>
                <a:tab algn="l" pos="9144000"/>
                <a:tab algn="l" pos="10058400"/>
              </a:tabLst>
            </a:pPr>
            <a:r>
              <a:rPr b="0" lang="es-ES_tradnl" sz="1000" spc="-1" strike="noStrike">
                <a:solidFill>
                  <a:srgbClr val="000000"/>
                </a:solidFill>
                <a:latin typeface="Arial"/>
              </a:rPr>
              <a:t>“</a:t>
            </a:r>
            <a:r>
              <a:rPr b="0" lang="es-ES" sz="1000" spc="-1" strike="noStrike">
                <a:solidFill>
                  <a:srgbClr val="000000"/>
                </a:solidFill>
                <a:latin typeface="Arial"/>
              </a:rPr>
              <a:t>Os pedimos, Venerables Hermanos, que incrementéis y perfeccionéis cada vez más las transmisiones religiosas según las necesidades y posibilidades locales. Y porque la digna presentación de las funciones religiosas por medio de la radio, como también de las verdades de la fe y las informaciones sobre la vida de la Iglesia, exigen, además de la vigilancia debida, talento y competencia especial, es indispensable preparar cuidadosamente a los sacerdotes y laicos destinados a tan importante actividad.</a:t>
            </a:r>
            <a:endParaRPr b="0" lang="en-US" sz="1000" spc="-1" strike="noStrike">
              <a:solidFill>
                <a:srgbClr val="000000"/>
              </a:solidFill>
              <a:latin typeface="Arial"/>
            </a:endParaRPr>
          </a:p>
          <a:p>
            <a:pPr>
              <a:tabLst>
                <a:tab algn="l" pos="0"/>
                <a:tab algn="dec" pos="4457880"/>
                <a:tab algn="l" pos="468648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dec" pos="4457880"/>
                <a:tab algn="l" pos="4686480"/>
                <a:tab algn="l" pos="5486400"/>
                <a:tab algn="l" pos="6400800"/>
                <a:tab algn="l" pos="7315200"/>
                <a:tab algn="l" pos="8229600"/>
                <a:tab algn="l" pos="9144000"/>
                <a:tab algn="l" pos="10058400"/>
              </a:tabLst>
            </a:pPr>
            <a:r>
              <a:rPr b="0" lang="es-ES" sz="1000" spc="-1" strike="noStrike">
                <a:solidFill>
                  <a:srgbClr val="000000"/>
                </a:solidFill>
                <a:latin typeface="Arial"/>
              </a:rPr>
              <a:t>Para que en tales condiciones pueda el espectáculo cumplir su función, necesario es un esfuerzo educativo que prepare al espectador a comprender el lenguaje propio de cada una de estas artes y a formarse una conciencia recta que le permita juzgar con madurez los diversos elementos ofrecidos por la pantalla y por el altavoz, para no verse obligado a sufrir pasivamente su influjo fascinador, como sucede con frecuencia.</a:t>
            </a:r>
            <a:endParaRPr b="0" lang="en-US" sz="1000" spc="-1" strike="noStrike">
              <a:solidFill>
                <a:srgbClr val="000000"/>
              </a:solidFill>
              <a:latin typeface="Arial"/>
            </a:endParaRPr>
          </a:p>
          <a:p>
            <a:pPr>
              <a:tabLst>
                <a:tab algn="l" pos="0"/>
                <a:tab algn="dec" pos="4457880"/>
                <a:tab algn="l" pos="468648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dec" pos="4457880"/>
                <a:tab algn="l" pos="4686480"/>
                <a:tab algn="l" pos="5486400"/>
                <a:tab algn="l" pos="6400800"/>
                <a:tab algn="l" pos="7315200"/>
                <a:tab algn="l" pos="8229600"/>
                <a:tab algn="l" pos="9144000"/>
                <a:tab algn="l" pos="10058400"/>
              </a:tabLst>
            </a:pPr>
            <a:r>
              <a:rPr b="0" lang="es-ES" sz="1000" spc="-1" strike="noStrike">
                <a:solidFill>
                  <a:srgbClr val="000000"/>
                </a:solidFill>
                <a:latin typeface="Arial"/>
              </a:rPr>
              <a:t>Bien saben todos cuánta virtud educativa pueden tener las buenas transmisiones; pero al mismo tiempo el uso de la estación entraña responsabilidades, porque, igual que las otras técnicas, puede emplearse tanto para el bien como para el mal. </a:t>
            </a:r>
            <a:endParaRPr b="0" lang="en-US" sz="1000" spc="-1" strike="noStrike">
              <a:solidFill>
                <a:srgbClr val="000000"/>
              </a:solidFill>
              <a:latin typeface="Arial"/>
            </a:endParaRPr>
          </a:p>
        </p:txBody>
      </p:sp>
      <p:sp>
        <p:nvSpPr>
          <p:cNvPr id="71" name=""/>
          <p:cNvSpPr/>
          <p:nvPr/>
        </p:nvSpPr>
        <p:spPr>
          <a:xfrm>
            <a:off x="1125360" y="7525800"/>
            <a:ext cx="504036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dec" pos="4457880"/>
                <a:tab algn="l" pos="468648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tal fin, en los países donde los católicos disponen de equipos modernos y tienen más larga experiencia, organícense oportunamente cursos adecuados de adiestramiento, que permitan a los candidatos, aun de otras naciones, adquirir la habilidad profesional necesaria para asegurar a las transmisiones religiosas un nivel artístico y técnico elevado. </a:t>
            </a:r>
            <a:endParaRPr b="0" lang="en-US" sz="1000" spc="-1" strike="noStrike">
              <a:solidFill>
                <a:srgbClr val="000000"/>
              </a:solidFill>
              <a:latin typeface="Arial"/>
            </a:endParaRPr>
          </a:p>
          <a:p>
            <a:pPr>
              <a:tabLst>
                <a:tab algn="l" pos="0"/>
                <a:tab algn="dec" pos="4457880"/>
                <a:tab algn="l" pos="468648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a:t>
            </a:r>
            <a:endParaRPr b="0" lang="en-US" sz="800" spc="-1" strike="noStrike">
              <a:solidFill>
                <a:srgbClr val="000000"/>
              </a:solidFill>
              <a:latin typeface="Arial"/>
            </a:endParaRPr>
          </a:p>
        </p:txBody>
      </p:sp>
      <p:sp>
        <p:nvSpPr>
          <p:cNvPr id="7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4"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12720" y="8726760"/>
            <a:ext cx="5624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baseline="30000">
                <a:solidFill>
                  <a:srgbClr val="009999"/>
                </a:solidFill>
                <a:uFillTx/>
                <a:latin typeface="Arial"/>
                <a:ea typeface="Times New Roman"/>
                <a:hlinkClick r:id="rId1" action="ppaction://hlinksldjump"/>
              </a:rPr>
              <a:t>[27]</a:t>
            </a:r>
            <a:r>
              <a:rPr b="0" lang="es-ES" sz="900" spc="-1" strike="noStrike">
                <a:solidFill>
                  <a:srgbClr val="000000"/>
                </a:solidFill>
                <a:latin typeface="Arial"/>
                <a:ea typeface="Times New Roman"/>
              </a:rPr>
              <a:t> Pío XII. Miranda Prorsus. Sobre el cine, la radio y la televisión. Pontificio Consejo para las Comunicaciones Sociales. Carta Encíclica del Sumo Pontífice. 8 de septiembre de 1957. No 18 </a:t>
            </a:r>
            <a:endParaRPr b="0" lang="en-US" sz="900" spc="-1" strike="noStrike">
              <a:solidFill>
                <a:srgbClr val="000000"/>
              </a:solidFill>
              <a:latin typeface="Arial"/>
            </a:endParaRPr>
          </a:p>
        </p:txBody>
      </p:sp>
      <p:sp>
        <p:nvSpPr>
          <p:cNvPr id="76" name=""/>
          <p:cNvSpPr/>
          <p:nvPr/>
        </p:nvSpPr>
        <p:spPr>
          <a:xfrm>
            <a:off x="1052640" y="683640"/>
            <a:ext cx="5329080" cy="855360"/>
          </a:xfrm>
          <a:prstGeom prst="rect">
            <a:avLst/>
          </a:prstGeom>
          <a:noFill/>
          <a:ln w="0">
            <a:noFill/>
          </a:ln>
        </p:spPr>
        <p:style>
          <a:lnRef idx="0"/>
          <a:fillRef idx="0"/>
          <a:effectRef idx="0"/>
          <a:fontRef idx="minor"/>
        </p:style>
        <p:txBody>
          <a:bodyPr lIns="90000" rIns="90000" tIns="46800" bIns="46800" anchor="ctr">
            <a:spAutoFit/>
          </a:bodyPr>
          <a:p>
            <a:pPr>
              <a:tabLst>
                <a:tab algn="l" pos="0"/>
                <a:tab algn="dec" pos="4457880"/>
                <a:tab algn="l" pos="468648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 nuestros días, las transmisiones de calidad exigen un verdadero arte; por lo tanto, los directores y cuantos toman parte en la preparación y ejecución de los programas deben poseer una vasta cultura. También a éstos dirigimos la advertencia, que hacíamos a los profesionales del cinematógrafo, de que se aprovechen ampliamente de las riquezas de la cultura cristiana. </a:t>
            </a:r>
            <a:r>
              <a:rPr b="0" lang="en-US" sz="1000" spc="-1" strike="noStrike" u="sng" baseline="30000">
                <a:solidFill>
                  <a:srgbClr val="009999"/>
                </a:solidFill>
                <a:uFillTx/>
                <a:latin typeface="Arial"/>
                <a:ea typeface="Times New Roman"/>
                <a:hlinkClick r:id="rId2" action="ppaction://hlinksldjump"/>
              </a:rPr>
              <a:t>[2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60280" y="1116000"/>
            <a:ext cx="61200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radiofón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 radialista quiere aprender!</a:t>
            </a:r>
            <a:endParaRPr b="0" lang="en-US" sz="2800" spc="-1" strike="noStrike">
              <a:solidFill>
                <a:srgbClr val="000000"/>
              </a:solidFill>
              <a:latin typeface="Arial"/>
            </a:endParaRPr>
          </a:p>
        </p:txBody>
      </p:sp>
      <p:sp>
        <p:nvSpPr>
          <p:cNvPr id="78" name=""/>
          <p:cNvSpPr/>
          <p:nvPr/>
        </p:nvSpPr>
        <p:spPr>
          <a:xfrm>
            <a:off x="2060640" y="4356000"/>
            <a:ext cx="27352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400" spc="-1" strike="noStrike">
                <a:solidFill>
                  <a:srgbClr val="000000"/>
                </a:solidFill>
                <a:latin typeface="Tahoma"/>
              </a:rPr>
              <a:t>Su ley, es la ley de “competir” con contenidos a cielo abierto en la cara de un Dios que los une para generar, junto al pastor y otros miembros de la comunidad, experiencias de paz y sosiego en una comunidad marcada por el robo, el atraco y la muerte de miles de guatemaltecos asesinados por sangre de su sangre”. </a:t>
            </a:r>
            <a:endParaRPr b="0" lang="en-US" sz="1400" spc="-1" strike="noStrike">
              <a:solidFill>
                <a:srgbClr val="000000"/>
              </a:solidFill>
              <a:latin typeface="Arial"/>
            </a:endParaRPr>
          </a:p>
        </p:txBody>
      </p:sp>
      <p:sp>
        <p:nvSpPr>
          <p:cNvPr id="79" name=""/>
          <p:cNvSpPr/>
          <p:nvPr/>
        </p:nvSpPr>
        <p:spPr>
          <a:xfrm>
            <a:off x="1681560" y="3986280"/>
            <a:ext cx="455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gency FB"/>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601200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0" y="442764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44360" y="4716360"/>
            <a:ext cx="6237360" cy="124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Despacito.  </a:t>
            </a:r>
            <a:r>
              <a:rPr b="1" lang="es-CO" sz="1600" spc="-1" strike="noStrike">
                <a:solidFill>
                  <a:srgbClr val="000000"/>
                </a:solidFill>
                <a:latin typeface="Arial Unicode MS"/>
              </a:rPr>
              <a:t>Marcando pausas, con la respiración cortada</a:t>
            </a:r>
            <a:r>
              <a:rPr b="0" lang="es-CO" sz="1200" spc="-1" strike="noStrike">
                <a:solidFill>
                  <a:srgbClr val="000000"/>
                </a:solidFill>
                <a:latin typeface="Arial Unicode MS"/>
              </a:rPr>
              <a:t>, don Nata, un viejo radialista se enfrentó a su primera clase de edición por computador. Salió feli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En Guatemala, en el Departamento de Progreso se encuentra Jutiapa, una tierra caliente en la que se disfruta la ciudad desde el moto taxi. Y cerca, muy en una esquina, se ve un descolorido aviso. Radio Esperanza. </a:t>
            </a:r>
            <a:endParaRPr b="0" lang="en-US" sz="1200" spc="-1" strike="noStrike">
              <a:solidFill>
                <a:srgbClr val="000000"/>
              </a:solidFill>
              <a:latin typeface="Arial"/>
            </a:endParaRPr>
          </a:p>
        </p:txBody>
      </p:sp>
      <p:sp>
        <p:nvSpPr>
          <p:cNvPr id="83"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a:t>
            </a:r>
            <a:endParaRPr b="0" lang="en-US" sz="800" spc="-1" strike="noStrike">
              <a:solidFill>
                <a:srgbClr val="000000"/>
              </a:solidFill>
              <a:latin typeface="Arial"/>
            </a:endParaRPr>
          </a:p>
        </p:txBody>
      </p:sp>
      <p:sp>
        <p:nvSpPr>
          <p:cNvPr id="84"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5"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1:13:34Z</dcterms:created>
  <dc:creator>Tito</dc:creator>
  <dc:description/>
  <dc:language>en-US</dc:language>
  <cp:lastModifiedBy>Tito</cp:lastModifiedBy>
  <dcterms:modified xsi:type="dcterms:W3CDTF">2008-06-06T21:14:00Z</dcterms:modified>
  <cp:revision>1</cp:revision>
  <dc:subject/>
  <dc:title>Diapositiva 1</dc:title>
</cp:coreProperties>
</file>